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251F-B5F9-43D9-8420-412F1E5F8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3098-2CBD-4FEF-99AF-755E5159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627D-048E-4B05-8836-F044D493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1974-94A6-41F6-B685-E3601AF4B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6CAA-6056-44E4-8299-A92B5E7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9C69-F24B-4BF8-9E8A-5AF69C43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61DB-7A1A-4E5B-A911-C0D2E3E0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5C05-8271-43ED-BEF3-731934D6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8F20-474E-427E-9DB7-9F68F726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E401-1530-41E1-A402-AC6AA1CC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B20B-76DB-49FD-A74C-912D3B9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34CC-EFB4-42E1-AE28-8A6276D3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B0D-A9F0-49AC-9C2D-073B479E0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crio.org/USGCRP/LaJolla/cover.html" TargetMode="External"/><Relationship Id="rId2" Type="http://schemas.openxmlformats.org/officeDocument/2006/relationships/hyperlink" Target="http://www.gcrio.org/USGCRP/LaJolla/cover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p.edu/catalog/11820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New Ye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538020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was a goo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behind the Federation has been reaffirm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erging cyberinfrastructure(s) look like the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ntities have jo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ederal agencies support the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 has changed for th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on is smaller and more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poised to adopt a new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SIP Federation officers (will) have been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ed support for Earth science by the incoming US Administration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, after reviewing USGCRP, NRC recommended: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esponsibility for product generation, publication, and user services should be held by 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ederation of partners,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hich w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utilize an open management approach in which key decisions are made wi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munity leadershi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ncourage innovation and creativity throug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de participation of the scientific, public, and private sectors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 Review of the U.S. Global Change Research Program and NASA’s Mission to Planet Earth/Earth Observing Sy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ational Academy Press, 1995, 96 pp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crio.org/USGCRP/LaJolla/cov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Particip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rom 27 to 110 (and 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 (estim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Science Mission Dir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cience and Applied Scienc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damental improvements are needed in existing observation and information systems because they only loosely connect three key elements: (1) the r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duce information; (2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es, forecasts, and mode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vide timely and coherent syntheses of otherwise disparate information; and (3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proces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use those analyses and forecasts to produce actions with direct societal benefit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wth:  NRC Decadal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617220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Council.  2007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th Science and Applications from Space:  National Imperatives for the Next Decade and Beyo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Washington.  437 p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ap.edu/catalog/11820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 Emph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surrounding climate change have been re-emphas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changes and likely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 of anticipated conseq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ose consequences that cannot be immediately mi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ire improved linkages between knowledge and action as described by the N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tion is healt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 the Federation continues to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ion that created the Federation was ahead of it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llenges are to continue to evolve and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do to better serve our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– and cannot – provide to our partners as we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best to configure ourselves to deliver on that 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1:29:00Z</dcterms:created>
  <dc:creator>The Office for Arid Lands Studies</dc:creator>
  <dc:description/>
  <dc:language>en-US</dc:language>
  <cp:lastModifiedBy> </cp:lastModifiedBy>
  <dcterms:modified xsi:type="dcterms:W3CDTF">2009-01-06T12:27:20Z</dcterms:modified>
  <cp:revision>24</cp:revision>
  <dc:subject/>
  <dc:title>Diffusion of innovation</dc:title>
</cp:coreProperties>
</file>